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1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11.jpeg" ContentType="image/jpeg"/>
  <Override PartName="/ppt/media/image1.gif" ContentType="image/gif"/>
  <Override PartName="/ppt/media/image3.gif" ContentType="image/gif"/>
  <Override PartName="/ppt/media/image4.png" ContentType="image/png"/>
  <Override PartName="/ppt/media/image1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66A8-649C-402D-88AF-592E83EF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05BB-8253-42AC-8E89-F46B3D67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CFD-BA6E-4655-BFDD-0E7B8351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335-1C41-43E4-AAEB-2A2B062E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0F4-5D01-4635-B6FC-2585C28C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0CD-D4A4-443A-870F-B0E9D309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A87-83BE-43F4-A7DB-A0D9A095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B255-DE94-46CF-8CE9-C5444C1F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7EB-E847-412B-8E88-8A9B1E1F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DAA-57E4-4C06-A32B-F36209CC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D90-D8B2-4559-8D95-40FC225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64F-4579-4DB6-8077-4774BB6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C171-CC0E-42DC-ADD2-E5E68DE87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gif"/><Relationship Id="rId3" Type="http://schemas.openxmlformats.org/officeDocument/2006/relationships/image" Target="../media/image5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3.xml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" Target="slide11.xml"/><Relationship Id="rId9" Type="http://schemas.openxmlformats.org/officeDocument/2006/relationships/image" Target="../media/image4.png"/><Relationship Id="rId10" Type="http://schemas.openxmlformats.org/officeDocument/2006/relationships/slide" Target="slide12.xml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1.gif"/><Relationship Id="rId14" Type="http://schemas.openxmlformats.org/officeDocument/2006/relationships/image" Target="../media/image5.gif"/><Relationship Id="rId15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gif"/><Relationship Id="rId4" Type="http://schemas.openxmlformats.org/officeDocument/2006/relationships/slide" Target="slide2.xml"/><Relationship Id="rId5" Type="http://schemas.openxmlformats.org/officeDocument/2006/relationships/image" Target="../media/image2.gif"/><Relationship Id="rId6" Type="http://schemas.openxmlformats.org/officeDocument/2006/relationships/image" Target="../media/image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gif"/><Relationship Id="rId6" Type="http://schemas.openxmlformats.org/officeDocument/2006/relationships/slide" Target="slide2.xml"/><Relationship Id="rId7" Type="http://schemas.openxmlformats.org/officeDocument/2006/relationships/image" Target="../media/image2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.gif"/><Relationship Id="rId4" Type="http://schemas.openxmlformats.org/officeDocument/2006/relationships/slide" Target="slide2.xml"/><Relationship Id="rId5" Type="http://schemas.openxmlformats.org/officeDocument/2006/relationships/image" Target="../media/image2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gif"/><Relationship Id="rId3" Type="http://schemas.openxmlformats.org/officeDocument/2006/relationships/slide" Target="slide2.xml"/><Relationship Id="rId4" Type="http://schemas.openxmlformats.org/officeDocument/2006/relationships/image" Target="../media/image2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260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Муниципаль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«Ординская средняя общеобразовательная школа»</a:t>
            </a:r>
            <a:r>
              <a:rPr b="0" lang="en-US" sz="18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0000" y="1413000"/>
            <a:ext cx="7848720" cy="29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пьютерная мышь:</a:t>
            </a:r>
            <a:endParaRPr b="1" i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 рождения до наших дней</a:t>
            </a:r>
            <a:endParaRPr b="1" i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03880" y="4308480"/>
            <a:ext cx="361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Работу 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ученица 9 а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Минширбанова Р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преподава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Кочнева Людмила Андр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360" y="6165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Орд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32720" y="6165720"/>
            <a:ext cx="505080" cy="505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28000" y="6237360"/>
            <a:ext cx="504720" cy="49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1438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2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64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6840360" cy="48848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7236000" y="309240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a00"/>
                </a:solidFill>
                <a:latin typeface="Arial"/>
              </a:rPr>
              <a:t>US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324000" y="260280"/>
            <a:ext cx="8280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одключения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95280" y="189000"/>
            <a:ext cx="835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сли мышка не слушается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8160" y="21441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00"/>
                </a:solidFill>
                <a:latin typeface="Arial"/>
              </a:rPr>
              <a:t>очищать мышь</a:t>
            </a:r>
            <a:r>
              <a:rPr b="1" lang="en-US" sz="32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29800" y="329688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00"/>
                </a:solidFill>
                <a:latin typeface="Arial"/>
              </a:rPr>
              <a:t>чист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18160" y="2133000"/>
            <a:ext cx="414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00"/>
                </a:solidFill>
                <a:latin typeface="Arial"/>
              </a:rPr>
              <a:t>заменить кабель</a:t>
            </a:r>
            <a:r>
              <a:rPr b="1" lang="en-US" sz="32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4508640"/>
            <a:ext cx="853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a00"/>
                </a:solidFill>
                <a:latin typeface="Arial"/>
              </a:rPr>
              <a:t>проверить положение переключателя режима работы мыш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50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111640" cy="49561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2195640" y="6399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</a:rPr>
              <a:t>Любовная мы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" repeatCount="1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ext1" descr="При помощи мыши с подогревом работать за компьютером станет удобнее"/>
          <p:cNvPicPr/>
          <p:nvPr/>
        </p:nvPicPr>
        <p:blipFill>
          <a:blip r:embed="rId1"/>
          <a:stretch/>
        </p:blipFill>
        <p:spPr>
          <a:xfrm>
            <a:off x="1547640" y="1484280"/>
            <a:ext cx="5761080" cy="45370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273040" y="6093000"/>
            <a:ext cx="40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00"/>
                </a:solidFill>
                <a:latin typeface="Arial"/>
                <a:ea typeface="Times New Roman"/>
              </a:rPr>
              <a:t>Мышка с подогре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Мышка-BMW"/>
          <p:cNvPicPr/>
          <p:nvPr/>
        </p:nvPicPr>
        <p:blipFill>
          <a:blip r:embed="rId1"/>
          <a:stretch/>
        </p:blipFill>
        <p:spPr>
          <a:xfrm>
            <a:off x="2484360" y="1557360"/>
            <a:ext cx="4321080" cy="43210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2771640" y="6030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00"/>
                </a:solidFill>
                <a:latin typeface="Arial"/>
              </a:rPr>
              <a:t>Мышка-BM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Новая компьютерная мышь Choikawadeco от японской компании SolidAlliance"/>
          <p:cNvPicPr/>
          <p:nvPr/>
        </p:nvPicPr>
        <p:blipFill>
          <a:blip r:embed="rId1"/>
          <a:stretch/>
        </p:blipFill>
        <p:spPr>
          <a:xfrm>
            <a:off x="2124000" y="1484280"/>
            <a:ext cx="4532400" cy="46814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411280" y="6236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</a:rPr>
              <a:t>Бриллиантовая 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985080" cy="399420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3137400" y="5949360"/>
            <a:ext cx="26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00"/>
                </a:solidFill>
                <a:latin typeface="Arial"/>
              </a:rPr>
              <a:t>Мышь-цветок</a:t>
            </a: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2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5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476360" y="1700280"/>
            <a:ext cx="6264000" cy="4731120"/>
            <a:chOff x="1476360" y="1700280"/>
            <a:chExt cx="6264000" cy="4731120"/>
          </a:xfrm>
        </p:grpSpPr>
        <p:pic>
          <p:nvPicPr>
            <p:cNvPr id="148" name="" descr="APC Biometric Mouse Password Manager – «грызун» с биометрическим сенсором"/>
            <p:cNvPicPr/>
            <p:nvPr/>
          </p:nvPicPr>
          <p:blipFill>
            <a:blip r:embed="rId1"/>
            <a:stretch/>
          </p:blipFill>
          <p:spPr>
            <a:xfrm>
              <a:off x="1617120" y="1700280"/>
              <a:ext cx="5564520" cy="4206600"/>
            </a:xfrm>
            <a:prstGeom prst="rect">
              <a:avLst/>
            </a:prstGeom>
            <a:ln w="38160">
              <a:solidFill>
                <a:srgbClr val="005800"/>
              </a:solidFill>
              <a:miter/>
            </a:ln>
          </p:spPr>
        </p:pic>
        <p:sp>
          <p:nvSpPr>
            <p:cNvPr id="149" name=""/>
            <p:cNvSpPr/>
            <p:nvPr/>
          </p:nvSpPr>
          <p:spPr>
            <a:xfrm>
              <a:off x="1476360" y="5971680"/>
              <a:ext cx="62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a00"/>
                  </a:solidFill>
                  <a:latin typeface="Arial"/>
                </a:rPr>
                <a:t>«грызун» с биометрическим сенсором</a:t>
              </a:r>
              <a:r>
                <a:rPr b="1" lang="en-US" sz="1800" spc="-1" strike="noStrike">
                  <a:solidFill>
                    <a:srgbClr val="003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09_omelette-mouse_2" descr="Безумная компьютерная мышь - японцы снова радуют!"/>
          <p:cNvPicPr/>
          <p:nvPr/>
        </p:nvPicPr>
        <p:blipFill>
          <a:blip r:embed="rId1"/>
          <a:stretch/>
        </p:blipFill>
        <p:spPr>
          <a:xfrm>
            <a:off x="971640" y="1447920"/>
            <a:ext cx="6408720" cy="46051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0" y="-42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615528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00"/>
                </a:solidFill>
                <a:latin typeface="Arial"/>
              </a:rPr>
              <a:t>Мышь в виде японского блюда Omura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a00"/>
                </a:solidFill>
                <a:latin typeface="Arial"/>
              </a:rPr>
              <a:t>(омлет фаршированный рисом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755640" y="333360"/>
            <a:ext cx="784872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" repeatCount="1000">
                                  <p:stCondLst>
                                    <p:cond delay="6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1835280" y="1519200"/>
            <a:ext cx="4895280" cy="5338080"/>
            <a:chOff x="1835280" y="1519200"/>
            <a:chExt cx="4895280" cy="5338080"/>
          </a:xfrm>
        </p:grpSpPr>
        <p:pic>
          <p:nvPicPr>
            <p:cNvPr id="164" name="" descr="Razer Copperhead – «медноголовая змея» для настоящего игромана"/>
            <p:cNvPicPr/>
            <p:nvPr/>
          </p:nvPicPr>
          <p:blipFill>
            <a:blip r:embed="rId1"/>
            <a:stretch/>
          </p:blipFill>
          <p:spPr>
            <a:xfrm>
              <a:off x="3315600" y="1519200"/>
              <a:ext cx="2113200" cy="3927240"/>
            </a:xfrm>
            <a:prstGeom prst="rect">
              <a:avLst/>
            </a:prstGeom>
            <a:ln w="38160">
              <a:solidFill>
                <a:srgbClr val="005800"/>
              </a:solidFill>
              <a:miter/>
            </a:ln>
          </p:spPr>
        </p:pic>
        <p:sp>
          <p:nvSpPr>
            <p:cNvPr id="165" name=""/>
            <p:cNvSpPr/>
            <p:nvPr/>
          </p:nvSpPr>
          <p:spPr>
            <a:xfrm>
              <a:off x="1835280" y="5940360"/>
              <a:ext cx="48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3a00"/>
                  </a:solidFill>
                  <a:latin typeface="Arial"/>
                </a:rPr>
                <a:t>«медноголовая змея», снабжена внутренней памятью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a00"/>
                  </a:solidFill>
                  <a:latin typeface="Arial"/>
                </a:rPr>
                <a:t>(32 К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4140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здатель компьютерной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рвая компьютерная 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Типы компьютерной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00"/>
                </a:solidFill>
                <a:latin typeface="Arial"/>
              </a:rPr>
              <a:t>Способы подклю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88000" y="1267920"/>
            <a:ext cx="43560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Если мышка не слуш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Модели компьютерной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00"/>
                </a:solidFill>
                <a:latin typeface="Arial"/>
              </a:rPr>
              <a:t>Вред компьютерной мы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15920"/>
            <a:ext cx="58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держание</a:t>
            </a:r>
            <a:endParaRPr b="0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788508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Геймерская мышь-хамелеон Creative Mouse Gamer HD7600L"/>
          <p:cNvPicPr/>
          <p:nvPr/>
        </p:nvPicPr>
        <p:blipFill>
          <a:blip r:embed="rId1"/>
          <a:stretch/>
        </p:blipFill>
        <p:spPr>
          <a:xfrm>
            <a:off x="1908000" y="1484280"/>
            <a:ext cx="4967640" cy="41893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17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32000" y="587628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a00"/>
                </a:solidFill>
                <a:latin typeface="Arial"/>
              </a:rPr>
              <a:t>мышь</a:t>
            </a: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3a00"/>
                </a:solidFill>
                <a:latin typeface="Arial"/>
              </a:rPr>
              <a:t>хамелеон</a:t>
            </a: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 Creative Mouse Gamer HD7600L</a:t>
            </a:r>
            <a:r>
              <a:rPr b="1" lang="ru-RU" sz="18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27.5675689697266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IOGEAR Travel Laser Mouse"/>
          <p:cNvPicPr/>
          <p:nvPr/>
        </p:nvPicPr>
        <p:blipFill>
          <a:blip r:embed="rId1"/>
          <a:stretch/>
        </p:blipFill>
        <p:spPr>
          <a:xfrm>
            <a:off x="1979640" y="1413000"/>
            <a:ext cx="4465440" cy="45370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77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615528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ышка, способные втягивать свой «хвос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Sigma SGM2 – мышь-пистолет для мобильных презентаций"/>
          <p:cNvPicPr/>
          <p:nvPr/>
        </p:nvPicPr>
        <p:blipFill>
          <a:blip r:embed="rId1"/>
          <a:srcRect l="2906" t="50834" r="4051" b="1719"/>
          <a:stretch/>
        </p:blipFill>
        <p:spPr>
          <a:xfrm>
            <a:off x="2195640" y="1557360"/>
            <a:ext cx="4392360" cy="38415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83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9440" y="5660640"/>
            <a:ext cx="35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a00"/>
                </a:solidFill>
                <a:latin typeface="Arial"/>
              </a:rPr>
              <a:t>Sigma SGM2 – мышь-писто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a00"/>
                </a:solidFill>
                <a:latin typeface="Arial"/>
              </a:rPr>
              <a:t>для мобильных презента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18" presetSubtype="12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7">
                                  <p:stCondLst>
                                    <p:cond delay="8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La Feel Multimedia Optical Mouse: мультимедийные кнопки всегда под рукой"/>
          <p:cNvPicPr/>
          <p:nvPr/>
        </p:nvPicPr>
        <p:blipFill>
          <a:blip r:embed="rId1"/>
          <a:stretch/>
        </p:blipFill>
        <p:spPr>
          <a:xfrm>
            <a:off x="2484360" y="1484280"/>
            <a:ext cx="4321080" cy="43210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86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5949360"/>
            <a:ext cx="33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ьтимедийные кнопки всегда под ру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2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59280" y="6092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00"/>
                </a:solidFill>
                <a:latin typeface="Arial"/>
              </a:rPr>
              <a:t>Молния</a:t>
            </a:r>
            <a:r>
              <a:rPr b="0" lang="en-US" sz="18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Компьютерная мышь Молния (USB)"/>
          <p:cNvPicPr/>
          <p:nvPr/>
        </p:nvPicPr>
        <p:blipFill>
          <a:blip r:embed="rId1"/>
          <a:stretch/>
        </p:blipFill>
        <p:spPr>
          <a:xfrm>
            <a:off x="3132000" y="1700280"/>
            <a:ext cx="2376720" cy="43210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19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564000" y="558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00"/>
                </a:solidFill>
                <a:latin typeface="Arial"/>
              </a:rPr>
              <a:t>Playboy</a:t>
            </a:r>
            <a:r>
              <a:rPr b="0" lang="ru-RU" sz="18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Компьютерная мышь Плейбой  (USB)"/>
          <p:cNvPicPr/>
          <p:nvPr/>
        </p:nvPicPr>
        <p:blipFill>
          <a:blip r:embed="rId1"/>
          <a:stretch/>
        </p:blipFill>
        <p:spPr>
          <a:xfrm>
            <a:off x="3492360" y="1557360"/>
            <a:ext cx="2078280" cy="37432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199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92360" y="1557360"/>
            <a:ext cx="5616360" cy="42148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201" name=""/>
          <p:cNvSpPr/>
          <p:nvPr/>
        </p:nvSpPr>
        <p:spPr>
          <a:xfrm>
            <a:off x="2051280" y="5949000"/>
            <a:ext cx="51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a00"/>
                </a:solidFill>
                <a:latin typeface="Arial"/>
              </a:rPr>
              <a:t>Реальная компьютерная мышь!</a:t>
            </a:r>
            <a:r>
              <a:rPr b="1" lang="en-US" sz="20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8" presetSubtype="1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561080" cy="34448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539640" y="5515920"/>
            <a:ext cx="76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a00"/>
                </a:solidFill>
                <a:latin typeface="Arial"/>
              </a:rPr>
              <a:t>Всем нам привычные, устройства, такие как клавиатура, мышь можно использовать совсем не по назначению</a:t>
            </a:r>
            <a:r>
              <a:rPr b="0" lang="en-US" sz="18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26920" y="333360"/>
            <a:ext cx="7415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дели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0491351056" descr="Псков"/>
          <p:cNvPicPr/>
          <p:nvPr/>
        </p:nvPicPr>
        <p:blipFill>
          <a:blip r:embed="rId1"/>
          <a:srcRect l="0" t="0" r="0" b="9284"/>
          <a:stretch/>
        </p:blipFill>
        <p:spPr>
          <a:xfrm>
            <a:off x="1187280" y="1700280"/>
            <a:ext cx="6336000" cy="36622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213" name=""/>
          <p:cNvSpPr txBox="1"/>
          <p:nvPr/>
        </p:nvSpPr>
        <p:spPr>
          <a:xfrm>
            <a:off x="1332000" y="260280"/>
            <a:ext cx="66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5800"/>
                  </a:solidFill>
                  <a:miter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ред компьютерной мыши</a:t>
            </a:r>
            <a:endParaRPr b="1" lang="en-US" sz="1800" spc="1" strike="noStrike">
              <a:ln w="9360">
                <a:solidFill>
                  <a:srgbClr val="005800"/>
                </a:solidFill>
                <a:miter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3928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8508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26920" y="544392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a00"/>
                </a:solidFill>
                <a:latin typeface="Arial"/>
              </a:rPr>
              <a:t>Компьютерные мыши и клавиатура могут служить источником заражения человека  инфекционным кишечным </a:t>
            </a:r>
            <a:r>
              <a:rPr b="1" lang="ru-RU" sz="2000" spc="-1" strike="noStrike" u="sng">
                <a:solidFill>
                  <a:srgbClr val="003a00"/>
                </a:solidFill>
                <a:uFillTx/>
                <a:latin typeface="Arial"/>
              </a:rPr>
              <a:t>норовирусом.</a:t>
            </a:r>
            <a:r>
              <a:rPr b="1" lang="ru-RU" sz="2000" spc="-1" strike="noStrike">
                <a:solidFill>
                  <a:srgbClr val="003a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32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3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95280" y="189000"/>
            <a:ext cx="842472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2a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Спасибо  за  внимание</a:t>
            </a:r>
            <a:endParaRPr b="1" lang="en-US" sz="1800" spc="1" strike="noStrike">
              <a:ln w="9360">
                <a:solidFill>
                  <a:srgbClr val="002a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25287.228786-1-332082" descr="Д. Энгельбард - изобретатель мышки"/>
          <p:cNvPicPr/>
          <p:nvPr/>
        </p:nvPicPr>
        <p:blipFill>
          <a:blip r:embed="rId1"/>
          <a:srcRect l="9826" t="2834" r="9826" b="0"/>
          <a:stretch/>
        </p:blipFill>
        <p:spPr>
          <a:xfrm>
            <a:off x="971640" y="1700280"/>
            <a:ext cx="3687840" cy="446400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54" name="" descr="Дуглас Энгельбарт и его «хвостатое чудо»"/>
          <p:cNvPicPr/>
          <p:nvPr/>
        </p:nvPicPr>
        <p:blipFill>
          <a:blip r:embed="rId2"/>
          <a:srcRect l="3483" t="1420" r="2997" b="1420"/>
          <a:stretch/>
        </p:blipFill>
        <p:spPr>
          <a:xfrm>
            <a:off x="5148360" y="1700280"/>
            <a:ext cx="2778120" cy="44654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900000" y="616572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a00"/>
                </a:solidFill>
                <a:latin typeface="Arial"/>
              </a:rPr>
              <a:t>Дуглас Энгельбарт и его «хвостатое чудо</a:t>
            </a:r>
            <a:r>
              <a:rPr b="1" lang="en-US" sz="2000" spc="-1" strike="noStrike">
                <a:solidFill>
                  <a:srgbClr val="002a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32000" y="189000"/>
            <a:ext cx="6696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углас Энгельбарт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rst-mouse-1-small" descr=" "/>
          <p:cNvPicPr/>
          <p:nvPr/>
        </p:nvPicPr>
        <p:blipFill>
          <a:blip r:embed="rId1"/>
          <a:stretch/>
        </p:blipFill>
        <p:spPr>
          <a:xfrm>
            <a:off x="539640" y="1197000"/>
            <a:ext cx="3745080" cy="244800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61" name="first-mouse-2" descr=" "/>
          <p:cNvPicPr/>
          <p:nvPr/>
        </p:nvPicPr>
        <p:blipFill>
          <a:blip r:embed="rId2"/>
          <a:stretch/>
        </p:blipFill>
        <p:spPr>
          <a:xfrm>
            <a:off x="4427640" y="1197000"/>
            <a:ext cx="3744720" cy="244800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62" name="first-mouse-3" descr=" "/>
          <p:cNvPicPr/>
          <p:nvPr/>
        </p:nvPicPr>
        <p:blipFill>
          <a:blip r:embed="rId3"/>
          <a:stretch/>
        </p:blipFill>
        <p:spPr>
          <a:xfrm>
            <a:off x="611280" y="3789360"/>
            <a:ext cx="3673440" cy="256068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63" name="firstmouse" descr="История компьютерной мыши"/>
          <p:cNvPicPr/>
          <p:nvPr/>
        </p:nvPicPr>
        <p:blipFill>
          <a:blip r:embed="rId4"/>
          <a:stretch/>
        </p:blipFill>
        <p:spPr>
          <a:xfrm>
            <a:off x="4427640" y="3789360"/>
            <a:ext cx="3816360" cy="25527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64" name=""/>
          <p:cNvSpPr txBox="1"/>
          <p:nvPr/>
        </p:nvSpPr>
        <p:spPr>
          <a:xfrm>
            <a:off x="755640" y="115920"/>
            <a:ext cx="763272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вая компьютерная мышь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50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32071" t="0" r="33040" b="59316"/>
          <a:stretch/>
        </p:blipFill>
        <p:spPr>
          <a:xfrm>
            <a:off x="179280" y="1484280"/>
            <a:ext cx="3672000" cy="51847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1403280" y="404640"/>
            <a:ext cx="6048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ханические мыши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626840"/>
            <a:ext cx="493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элементом являются датчики, отслеживающие движение шарика. Датчики механические, отсюда и название мышей. В результате этого движение мыши происходит не так плавно, да и долговечность ее тоже невелика. Поэтому, так как качество их оставляет желать лучшего, а себестоимость не намного ниже оптомеханических мышей, практически все производители прекратили их выпус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1.2269958496094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187280" y="189000"/>
            <a:ext cx="66978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томеханические мыши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20067" r="67929" b="59278"/>
          <a:stretch/>
        </p:blipFill>
        <p:spPr>
          <a:xfrm>
            <a:off x="611280" y="1773360"/>
            <a:ext cx="2879640" cy="175572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rcRect l="32078" t="20067" r="34126" b="59278"/>
          <a:stretch/>
        </p:blipFill>
        <p:spPr>
          <a:xfrm>
            <a:off x="611280" y="4365720"/>
            <a:ext cx="2879640" cy="165564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635280" y="2341800"/>
            <a:ext cx="522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огичны механическим, но движение шарика отслеживаются оптическими датчиками. Такие мыши довольно надежны, универсальны (могут работать на любой ровной поверх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ешевы, поэтому получили очень большое распространение, и обычно используются именно он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Logitech MX Air"/>
          <p:cNvPicPr/>
          <p:nvPr/>
        </p:nvPicPr>
        <p:blipFill>
          <a:blip r:embed="rId1"/>
          <a:stretch/>
        </p:blipFill>
        <p:spPr>
          <a:xfrm>
            <a:off x="468360" y="1341360"/>
            <a:ext cx="3262320" cy="52563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82" name=""/>
          <p:cNvSpPr txBox="1"/>
          <p:nvPr/>
        </p:nvSpPr>
        <p:spPr>
          <a:xfrm>
            <a:off x="1547640" y="260280"/>
            <a:ext cx="597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тические мыши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1769040"/>
            <a:ext cx="5113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ылают луч на непрозрачную поверхность, а после отражения луч поступает обратно в мышь и там анализируется электроникой, которая в зависимости от характеристик полученного сигнала и отслеживает два направления движения мыши, основываясь либо на углах падения, либо на каких-либо других признаках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2.9457366943359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8" presetSubtype="1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481800" cy="51483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6676920" y="3213000"/>
            <a:ext cx="24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a00"/>
                </a:solidFill>
                <a:latin typeface="Arial"/>
              </a:rPr>
              <a:t>COM-интерфей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50920" y="260280"/>
            <a:ext cx="856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одключения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260280"/>
            <a:ext cx="864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58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одключения</a:t>
            </a:r>
            <a:endParaRPr b="1" lang="en-US" sz="1800" spc="1" strike="noStrike">
              <a:ln w="0">
                <a:noFill/>
              </a:ln>
              <a:solidFill>
                <a:srgbClr val="0058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567" r="15955" b="0"/>
          <a:stretch/>
        </p:blipFill>
        <p:spPr>
          <a:xfrm>
            <a:off x="324000" y="1484280"/>
            <a:ext cx="6048360" cy="5040360"/>
          </a:xfrm>
          <a:prstGeom prst="rect">
            <a:avLst/>
          </a:prstGeom>
          <a:ln w="38160">
            <a:solidFill>
              <a:srgbClr val="0058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6877080" y="31370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a00"/>
                </a:solidFill>
                <a:latin typeface="Arial"/>
              </a:rPr>
              <a:t>PS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39280" y="635328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636732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524720" y="6205680"/>
            <a:ext cx="7542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03:07:39Z</dcterms:created>
  <dc:creator>user</dc:creator>
  <dc:description/>
  <dc:language>en-US</dc:language>
  <cp:lastModifiedBy>comp</cp:lastModifiedBy>
  <dcterms:modified xsi:type="dcterms:W3CDTF">2009-01-22T11:51:48Z</dcterms:modified>
  <cp:revision>154</cp:revision>
  <dc:subject/>
  <dc:title>Слайд 1</dc:title>
</cp:coreProperties>
</file>